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8804-F163-47C5-9838-6AABAD39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B02E-83E5-4FED-A267-451E5BD5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6329AF-41A7-414C-BB5B-59E3E0B2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973F03-0AE4-4E31-B894-DBF593E4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B5398B-08A7-44C2-B833-F9ECAD86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08A643-AEB5-476B-AD9A-48D26ABC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21619F-9CBE-470B-9EE5-4484B66D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F537B1-A27C-422E-9FDC-77B33E29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5206FC-938B-416E-8A8E-62BC7252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6E4272-4FD2-4A44-B24B-F615D852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FF59BB-7F89-4B14-A2B5-0C45F7C4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80D5F5-1E62-430E-AA80-7F61E6B9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1186-9FCD-4D9E-ADC0-11F4B793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39A99C-AC23-48D5-9D0A-7C7579EC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D13494-6572-4A3F-926B-9184E2F2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6E309D-FFDD-4DB6-BF75-5FD02C70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FFD756-31C7-4E01-B211-B065CF83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F8FB98-1807-45BB-804F-FDA3064E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824D4C-AA89-4269-B10A-0559AA8C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666199-0C6D-441C-8F9F-CC99A165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095AF4-0B8E-4D65-886A-1228EDC4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01BFF4-6036-49FC-A1C4-A40727D9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CA3A6C-FD00-4662-8284-752DB72A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505-7447-4017-85FE-86CBF356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4C35F5-1BE1-470B-A809-F1BADB894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E587F-1030-4DDD-A4D1-BFC3C1DE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67111-B7E3-4521-9041-F6C929DD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A261E-8647-46AB-B9F6-66E92F40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FEC3C-A128-44D9-A796-1E79848B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0C991-0A1D-4820-85FD-9DDCEBC2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7E811-C1C9-416F-85F6-CF658B62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0C353-DCD1-4919-B9C3-2CCA5E52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15380-112F-46A9-B837-BE97F2CC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ABF7F-3274-4B63-9D79-C2D97409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1FEF-A82E-44C8-B89B-C243AF71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A7B23-F215-46BE-AA4E-552D5B9B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7AFB4-36B2-4487-B2F5-AE4BD4A2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DB54E-7206-4351-9507-F4A10553D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91E664-368E-43B4-81F1-D8B97F97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DB574-1F64-401D-B2FA-8BDA89F1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AC3D87-4F87-4840-8D43-855E2302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8DBFED-2C99-4514-96E5-7F382CF8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5E22FE-095E-4A15-891D-34DCB653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84B843-DE07-41EE-9FBB-B7F85A3A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6BA4BD-3D61-4CAF-A68D-E8D91100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A318-F75F-403E-B24B-4BDFC249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2325EC-E1BD-490F-A90A-30DAFC94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6538A3-1179-4085-AAD2-9FB6CDC8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679436-D19B-4234-9CB8-E90A592A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B1179B-095F-4A1C-9F75-02FD62DF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EC0A0B-56D0-4D55-A097-54E57DEB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E452-4DB9-4FC6-B63C-60E2E966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FF9D-A10B-4BD6-B206-F0005F61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5A4A-F657-477F-924C-2744C434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7477-BACF-4E39-BE1E-E45F3AD6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B834-1D93-4C3E-848E-10FF88C4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93A4-4FA9-4A6E-A68C-CE0EA930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B5DC-D2C3-4ADF-8D09-5C037183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1359-10CA-4884-9FDA-1D3C38AE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35D8-6C0F-4C30-9BE5-9F9A6CAF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9AB5-4127-4D8E-AFC2-97606D54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B75D-9C44-4871-884E-8263645D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492EB-67B5-4BC4-B94C-F5DABB63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34812-CC0A-4475-BAE6-9F29D521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7811A-4A7E-4399-B1F7-347B4830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C3E02-2C20-46FA-A8A7-86CE1F1B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A709D-7B09-428F-830C-7F0E2F6B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3342-EDD2-44FC-9287-9AD3B43C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C626C-CD05-4939-B7E4-BAEDFE14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309AB-68AC-4F40-B601-F734735C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A485C-8F8D-4420-8524-BAA99A07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45800-CBF5-4417-8368-60DDC6AD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EB3E7-18BC-412A-AD5A-72851F04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9F7D1-D122-4BAD-8E45-930AD970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E4671-8C4A-4B35-A793-956D5C55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4DFCD-C8D1-4E5B-9245-2F38F9C5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43A72-9AE6-46B4-AF87-B4640AD2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82988-C0BA-43E5-8219-DECA7A17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EE9A-66C0-4205-94D2-E42368F7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53CFB-6B69-4F4B-9F6E-099CECF5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2FDAF-9557-4BD8-851D-FD67920D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CE9D1-8D04-4FB6-8F70-F3B702E7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93A97-05C1-4F68-972F-95CE422D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8EE0C-B5F6-4E2E-9590-F78E52FA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8251F-7B11-41D0-BE3E-79652FB5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FA57B-DF6E-4DB5-8A51-25609865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FBF86-D555-400E-807A-6C4CF188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4330E-91D5-44BF-9D92-70C3CC6C0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DFE87-E80A-455F-92C3-7EDC50B0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27B5-8F6D-462E-A11F-C01C2F0F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12335-4C80-49DB-BBA1-1017623A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9708C-BE08-4278-BABA-49EBD1AB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50491-D07C-4561-8BE3-5C1D5BDA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9006B-46CF-4152-A5F4-D736A40D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4BFE0-D83E-486E-ADEB-D6D65FE0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C8D8E-2664-477C-8527-634ED576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5799E-6B8B-41A5-8AE5-7E0852D3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1507B-0B6B-4EA7-B124-9A22C953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4126D-CF97-4152-BC36-DC7DD3AB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B9FE1-A104-4050-BB0C-9F1430DA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AEAC-4A70-45B4-A964-4C38D21A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3543C-9222-45A8-8937-479D9D6A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9E42C-E213-4BAB-9CF9-4591A6F7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439BD-F6DB-402B-AA54-CBCF07A0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0E5DF-AADB-46FD-A8F8-C7B2CEC5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EFEB5-DF84-4AAC-A066-CD9F8CAA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0B07C-B0BE-42D4-B7FE-BC2D9F04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511A7-49F5-4D8E-AA3E-D908CDED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A8818-D184-4ADA-8A0F-6BB736EA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BE0BB-5D62-41C2-B2B6-2E99DDD1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D237A-BA74-4F66-AA89-216D6EC9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C967-0D0E-4E20-8F0A-D0586D9D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C8012-12FB-4DB4-BBBD-4C52D11A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ACDD0-14FE-4CF9-AA81-000F4CA9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095AB-4DDC-456B-94D7-0A42467C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92EEC-030D-45A1-B9C1-70E5F1CF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42999-9650-45F8-ADDC-7F5B8EF0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D9C1F-4BA1-4204-B4AA-AA08BACD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B99B1-F0A5-42FE-93A0-E17B313D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EA5F0-C3D0-41CF-AA90-FAEA3B19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9E0BA-2A6E-42DD-8E07-4ECA7364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D870A-2521-4352-9761-54A9CAC8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F215-1A92-4BCF-946E-D8E6DD93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89AF3-347C-472E-A250-05B17344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E7525-FE1C-44D0-953A-AA04BB76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61CE3-4C3C-447A-8C1C-7523B119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12898-00EB-4ABF-BB80-D61C3BED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7B329-93B8-4AFA-9EA1-A863C691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551A6-01C2-4EE4-BBF5-E5EEE90E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891D8-EDF2-4D5C-ABC5-B88CF1EB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58C54-F297-4577-8701-E1770C30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A5571-B165-4042-B090-A13CB88C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0A7A7-7FBF-4FEA-B2D2-8F483A69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10A9-3BE0-4395-950F-C7070371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0190F-50C2-4396-84A7-DB59BBF2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49877-24E6-4B92-B77B-D0E8AB0A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F017F-8D66-41DE-9044-AD06D553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97097-5D7F-4C84-8341-73FA0D31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BE667-3B79-4EAA-912A-43074A21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B3994-F2E7-41D8-9AD7-5935243C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943F6-A491-46FD-A96A-9E941407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8B4DD4-1FC1-4C59-A5BD-31797B92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061A67-7228-4671-86DD-124CF562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A14FAC-36B5-4463-8E7F-6CAF5AA2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7296-336E-4736-BAB0-C1BA195AD9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F0C7-CE58-498E-AC19-A638964266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1E0E-44A0-44D1-A1B2-B473B66D8F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04EA-0373-435A-8814-5455A95D2E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55E3-4142-48A7-8BF3-55789FF36E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D442-8F35-48A9-BDFB-89E8927C2C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CEDD-0ED8-435B-9578-4BB5E12FDB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CB7E-52E0-49A1-BC08-A9DA13DB89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00DF-FABD-4F6D-A7D8-01C0474390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459C-F963-4350-BB9C-0B8EECC858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89C4-93E8-46F1-9EB5-C82E90564B6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D17D-E879-4C49-B59F-875F007CAE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f7f7f"/>
                </a:solidFill>
                <a:latin typeface="Georgia"/>
              </a:rPr>
              <a:t>1</a:t>
            </a:r>
            <a:r>
              <a:rPr b="1" lang="en-US" sz="4800" spc="-1" strike="noStrike" baseline="30000">
                <a:solidFill>
                  <a:srgbClr val="7f7f7f"/>
                </a:solidFill>
                <a:latin typeface="Georgia"/>
              </a:rPr>
              <a:t>st</a:t>
            </a:r>
            <a:r>
              <a:rPr b="1" lang="en-US" sz="4800" spc="-1" strike="noStrike">
                <a:solidFill>
                  <a:srgbClr val="7f7f7f"/>
                </a:solidFill>
                <a:latin typeface="Georgia"/>
              </a:rPr>
              <a:t> Quarter Reflection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228240" y="10663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 class is ____________________________________(harder, easier or about what I expected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quarter, I socialized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o mu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oug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t enough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 complete homework on time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quarter, I studied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o mu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oug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t enough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 typically wait until the night before a test to study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 ask questions in clas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o mu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oug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t enough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 feel comfortable asking Mrs. Cummins for help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 pay attention in clas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 think I did my best work during the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quarter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y parents will think I did my best the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quarter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rs. Cummins thinks I did my best the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quarter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y grades represent what I have learned in clas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 learned best when I was able to  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I had the quarter to do over again, I would 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the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quarter, I have decided to  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b5064"/>
                </a:solidFill>
                <a:latin typeface="Georgia"/>
              </a:rPr>
              <a:t>2</a:t>
            </a:r>
            <a:r>
              <a:rPr b="1" lang="en-US" sz="4400" spc="-1" strike="noStrike" baseline="30000">
                <a:solidFill>
                  <a:srgbClr val="4b5064"/>
                </a:solidFill>
                <a:latin typeface="Georgia"/>
              </a:rPr>
              <a:t>nd</a:t>
            </a:r>
            <a:r>
              <a:rPr b="1" lang="en-US" sz="4400" spc="-1" strike="noStrike">
                <a:solidFill>
                  <a:srgbClr val="4b5064"/>
                </a:solidFill>
                <a:latin typeface="Georgia"/>
              </a:rPr>
              <a:t> Quarter Reflection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8088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AME:  _________________________                      DATE: ______________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 the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quarter, I had decided to  __________________________________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 have/have not followed through with this decision due to ________________________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biggest change I need to make in my behavior this semester is ________________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biggest change I need to make in my completion of homework is ____________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biggest change I need to make in studying for tests is ______________________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ments:  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80880" y="182880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b9899"/>
                </a:solidFill>
                <a:latin typeface="Georgia"/>
              </a:rPr>
              <a:t>Student Response Systems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2:50:46Z</dcterms:created>
  <dc:creator>mmiddleton</dc:creator>
  <dc:description/>
  <dc:language>en-US</dc:language>
  <cp:lastModifiedBy>mmiddleton</cp:lastModifiedBy>
  <dcterms:modified xsi:type="dcterms:W3CDTF">2011-02-11T13:17:15Z</dcterms:modified>
  <cp:revision>6</cp:revision>
  <dc:subject/>
  <dc:title>Slide 1</dc:title>
</cp:coreProperties>
</file>